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78D-1089-414B-9C6D-E6C6FC59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EB0-01E7-4419-A044-37FC3711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978-CD59-4E87-AF49-D4AFE178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60E-23AE-43D9-B518-703B450C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A6A-EC9A-4776-98CD-0735987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F62-50B6-43DB-B61E-306D350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D38-6EB4-49B5-BD65-D0F8D7B6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526-2E57-439B-8979-C692EE6F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166-DE82-41D5-A520-3F20A04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07E-4C53-48E2-9855-1A129982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17A-6CAE-421B-9FEB-E144539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88C-CA42-4481-9039-B8726AF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0FB-1F76-4FF6-91B5-7384FB1D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0557" t="38724" r="0" b="4033"/>
          <a:stretch/>
        </p:blipFill>
        <p:spPr>
          <a:xfrm>
            <a:off x="914400" y="17524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3200400" y="3123720"/>
            <a:ext cx="297180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5105520"/>
            <a:ext cx="129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directions to Korean International School of Hong K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4 km18 mi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1:38Z</dcterms:created>
  <dc:creator>student305</dc:creator>
  <dc:description/>
  <dc:language>en-US</dc:language>
  <cp:lastModifiedBy>student305</cp:lastModifiedBy>
  <dcterms:modified xsi:type="dcterms:W3CDTF">2010-03-23T05:23:22Z</dcterms:modified>
  <cp:revision>3</cp:revision>
  <dc:subject/>
  <dc:title>Route Map</dc:title>
</cp:coreProperties>
</file>